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0FB6-2A0B-4920-9C39-7DA4F5E76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474B-6801-48DF-ACB8-396E6AB45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A986-F207-4CA3-86CB-AAE8EC358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7FA2B-F109-4AEB-9D10-C3C50A79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DFB05-492E-4EEF-BD5E-6E16CBC2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F7AB9-7205-4156-A5D2-845B0C49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962C6-5084-4E0C-AF9B-074A7415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27A3-3813-4453-A2F8-0D00C614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EE8C-2F86-444E-A103-71E5B53B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7F8B-E519-4A78-97A9-F0ABD3ED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99F2-DDA3-4327-92CC-5B49F392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B58C-1D24-4DD4-A3AD-F45BF0B5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9A5F-EE29-4E58-AC1F-88D035EF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EF48-31AF-44B2-9231-2E75CA14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F8A95-B904-4ACD-9445-7BC7FB87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99CC-49C7-4426-9A00-B6FD5C7D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6F68-894C-4DD9-9188-775D7087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4375-B9E7-4150-9C29-3EC4DCA7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A1B7-FF0B-48EF-BD21-CC71AF52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FEE4-93F4-48DB-9E6C-0550F894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B7D61-907D-46D5-83EA-6ACA57EF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2629A-BD25-40DA-9B2B-6957798A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80C15-6BDF-45FA-A458-4762ECC3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F12A0-8766-4DC0-B6BE-B958CBCC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4D554-3CB2-494E-99B1-CEF09322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A80C8-2273-4480-BD21-76D15EDF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AE6D9-7CA6-4F85-AF63-CF679A5A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95E3-3F06-4A3E-A9AB-16D64D6AC6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CA5B-6F2F-45A6-A1B0-4A0497974FB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7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Text Box 21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7E23-5721-40D1-BDBF-0A7E1D79D33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2C43-C09B-4FFA-81EB-4347D4F1D4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62F1-B2FC-428C-9BB5-EC711D7041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Verdana"/>
              </a:rPr>
              <a:t>Checklist d’orie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r d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roduction à la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vue technique d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gnes de conduite clefs du pers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ystème de gestion de la qualité a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criptif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ate de débu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SITION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SPONSABL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48C9-7BAC-4133-B9D0-4914FAC1CC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762120" y="1066680"/>
            <a:ext cx="800100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99"/>
                </a:solidFill>
                <a:latin typeface="Verdana"/>
              </a:rPr>
              <a:t>L’évaluation des performances peut plus mettre en lumière les opportunités d’amélioration pour le laboratoire que pour l’employ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MCj04260720000[1]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65FA-A0A7-46B2-8727-128B319570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alifications et descriptif de po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33520" y="1219320"/>
            <a:ext cx="830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« La direction du laboratoire devrait avoir des descriptifs de  poste qui définissent les qualifications et les fonctions de tout le personnel. »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SO15189: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2120" y="2819520"/>
            <a:ext cx="40384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éducation requ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ertificats re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iplômes re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é requises avant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é requises avant expé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mpétences requ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spécifie la hiérarch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spécifie les responsabilit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ô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fo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ponsabi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structures d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762120" y="2438280"/>
            <a:ext cx="40384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Descriptif de 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8990-F6BC-4145-A98A-7108374D05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Verdana"/>
              </a:rPr>
              <a:t>Évaluation des compétences Check-list 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ha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981080"/>
          <a:ext cx="8229600" cy="4543560"/>
        </p:xfrm>
        <a:graphic>
          <a:graphicData uri="http://schemas.openxmlformats.org/drawingml/2006/table">
            <a:tbl>
              <a:tblPr/>
              <a:tblGrid>
                <a:gridCol w="2743200"/>
                <a:gridCol w="1066680"/>
                <a:gridCol w="304920"/>
                <a:gridCol w="533520"/>
                <a:gridCol w="609480"/>
                <a:gridCol w="297180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 technici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édure d’é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d’é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ément de procéd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u le manuel de procéd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ture du 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quipement dispon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 de travail pro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paration réact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 la tâche correct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 la tâche opportuné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2D5A-B4DF-4373-B6E1-FB724C25F9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Verdana"/>
              </a:rPr>
              <a:t>Évaluation des compétences Check-list</a:t>
            </a:r>
            <a:r>
              <a:rPr b="0" lang="fr-FR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(b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752480"/>
          <a:ext cx="8229600" cy="445464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182520"/>
                <a:gridCol w="731880"/>
                <a:gridCol w="182520"/>
                <a:gridCol w="655560"/>
                <a:gridCol w="28195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sumé d’éval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80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formation requise pour combler les défaillanc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2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és recommandé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_____ jo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2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ture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ien évalu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FF26-430D-4848-9F6B-A6CEC41595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Évaluation des compé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228600" y="1676520"/>
            <a:ext cx="8610480" cy="464796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04920" y="1143000"/>
          <a:ext cx="8610480" cy="510840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447560"/>
                <a:gridCol w="1295640"/>
                <a:gridCol w="1218960"/>
                <a:gridCol w="2590920"/>
              </a:tblGrid>
              <a:tr h="835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e d’évaluation des compét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ôpital principal – Laboratoire de Microbiolo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â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ation 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des disques trop proches. Ré évaluation dans 14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émocult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ifug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plissage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ée donn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rreurs.  Lire le manuel et ré évaluer dans 10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0B34-2D25-4F91-A3E7-F7D9EB4CBB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80880" y="1523880"/>
            <a:ext cx="3962520" cy="54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au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pécifique à une tâ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à l’évaluation des compé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xemples: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visions des manuels opérato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vision des mises à jour du manu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rmation sur l’équipemen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57200" y="685800"/>
            <a:ext cx="403848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Verdana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4572000" y="1752480"/>
            <a:ext cx="4267080" cy="48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au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ut ne pa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être spécifique à une tâ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ut ne pa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être liée à l’évaluation des  compé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xe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é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lubs de rev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vues et litté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Form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7" descr="MCBD06810_0000[1]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MCBS00263_0000[1]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44" name="WordArt 20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2988-DAE2-4CA3-BF95-CCEDAEDF4C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73BF-6889-4540-A79A-FCCA19F3016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99"/>
                </a:solidFill>
                <a:latin typeface="Verdana"/>
              </a:rPr>
              <a:t>Ressources de 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rsonnel in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mité d’assuranc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édec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firmier(èr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athologi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des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pidémiologi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x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valuate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abrica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ociétés scientifiq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ganisations de normalis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0010000[1]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9BB3-9AAB-4F45-850D-77C189565E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uses d’une performance médioc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33520" y="1752480"/>
            <a:ext cx="3733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Personnelle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blème de san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uvaise compréh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nque de/mauvaise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B22B-20F9-402F-814B-5CC365B6D8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ques/géné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tractions sur lieu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rcharge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ientation médio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rmation insuffis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’évaluation des compé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lexités des échantil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S absentes ou pas va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S ambiguë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auses d’une performance médioc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4:47:58Z</dcterms:modified>
  <cp:revision>202</cp:revision>
  <dc:subject/>
  <dc:title>Slide 1</dc:title>
</cp:coreProperties>
</file>